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638D-8573-411A-9A58-2BE1CBF90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8EF0-50C2-465B-92C0-D68BC7D4A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7E3-D0C5-4CF7-A1C3-D6563781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25F-7C70-439D-AA86-9669A0D0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2C7-B417-49DC-8853-76AC2A34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4EB-5148-4B70-96FC-4010E101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241-4C3A-46E3-94E1-7C0292BC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C64-D456-4C9E-B8E4-9191B6F3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2FF-884D-4638-8B29-ED66E528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73D-4AD0-49B3-B100-0DF75023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5EE-B76A-4ADE-A074-D3D03B7F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C95-28E7-4850-BA98-B380E331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9A8-F9F7-43F8-BBDB-E7557E56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B71-1CAE-48CF-A311-2C725682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A7A-BAC3-446A-846D-947E15953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please.com/atlas/country/lebanon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Map of Lebanon">
            <a:hlinkClick r:id="rId2"/>
          </p:cNvPr>
          <p:cNvPicPr/>
          <p:nvPr/>
        </p:nvPicPr>
        <p:blipFill>
          <a:blip r:embed="rId3"/>
          <a:srcRect l="12000" t="0" r="9512" b="19459"/>
          <a:stretch/>
        </p:blipFill>
        <p:spPr>
          <a:xfrm>
            <a:off x="3657600" y="1371600"/>
            <a:ext cx="2743200" cy="241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http://www.lib.utexas.edu/maps/middle_east_and_asia/middle_east_pol_1976.jpg"/>
          <p:cNvPicPr/>
          <p:nvPr/>
        </p:nvPicPr>
        <p:blipFill>
          <a:blip r:embed="rId4"/>
          <a:stretch/>
        </p:blipFill>
        <p:spPr>
          <a:xfrm>
            <a:off x="6134040" y="0"/>
            <a:ext cx="300996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0" y="1447920"/>
            <a:ext cx="3581280" cy="283716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Dem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pit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ir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ngu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elig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lam 60%, Christianity 3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iteracy Rate: 8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atural Resourc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mestone, salt,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 flipV="1">
            <a:off x="457200" y="388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48520" y="2438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gion of Leba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Flag of Lebanon"/>
          <p:cNvPicPr/>
          <p:nvPr/>
        </p:nvPicPr>
        <p:blipFill>
          <a:blip r:embed="rId5"/>
          <a:stretch/>
        </p:blipFill>
        <p:spPr>
          <a:xfrm>
            <a:off x="0" y="0"/>
            <a:ext cx="2381400" cy="1467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2"/>
          <p:cNvSpPr/>
          <p:nvPr/>
        </p:nvSpPr>
        <p:spPr>
          <a:xfrm>
            <a:off x="2895480" y="457200"/>
            <a:ext cx="30481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LEBA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An awsome place to l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962520" y="1828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of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http://www.un.int/wcm/webdav/site/lebanon/shared/images/Beyrouth.jpg"/>
          <p:cNvPicPr/>
          <p:nvPr/>
        </p:nvPicPr>
        <p:blipFill>
          <a:blip r:embed="rId6"/>
          <a:srcRect l="7253" t="3640" r="10536" b="12348"/>
          <a:stretch/>
        </p:blipFill>
        <p:spPr>
          <a:xfrm>
            <a:off x="5791320" y="3352680"/>
            <a:ext cx="2928960" cy="1981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7"/>
          <p:cNvSpPr/>
          <p:nvPr/>
        </p:nvSpPr>
        <p:spPr>
          <a:xfrm>
            <a:off x="5486400" y="5410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Beautiful Country of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http://www.paragkhanna.com/wp-content/uploads/2010/12/lebanon-1.jpg"/>
          <p:cNvPicPr/>
          <p:nvPr/>
        </p:nvPicPr>
        <p:blipFill>
          <a:blip r:embed="rId7"/>
          <a:srcRect l="10300" t="0" r="12449" b="47200"/>
          <a:stretch/>
        </p:blipFill>
        <p:spPr>
          <a:xfrm>
            <a:off x="0" y="3962520"/>
            <a:ext cx="2666880" cy="2057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0"/>
          <p:cNvSpPr/>
          <p:nvPr/>
        </p:nvSpPr>
        <p:spPr>
          <a:xfrm>
            <a:off x="609480" y="62485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Snowy Mountains in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6488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Cody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16"/>
          <p:cNvCxnSpPr/>
          <p:nvPr/>
        </p:nvCxnSpPr>
        <p:spPr>
          <a:xfrm flipH="1" flipV="1">
            <a:off x="7009560" y="1294560"/>
            <a:ext cx="30564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17"/>
          <p:cNvSpPr/>
          <p:nvPr/>
        </p:nvSpPr>
        <p:spPr>
          <a:xfrm>
            <a:off x="739152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8" descr="http://t0.gstatic.com/images?q=tbn:ANd9GcQP_61xXFrggd6TTIXV4Q5GUv81SY0jdTz8CFc3IIm4FERPZM3bnw"/>
          <p:cNvPicPr/>
          <p:nvPr/>
        </p:nvPicPr>
        <p:blipFill>
          <a:blip r:embed="rId8"/>
          <a:stretch/>
        </p:blipFill>
        <p:spPr>
          <a:xfrm>
            <a:off x="2743200" y="3886200"/>
            <a:ext cx="2895480" cy="1581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7"/>
          <p:cNvSpPr/>
          <p:nvPr/>
        </p:nvSpPr>
        <p:spPr>
          <a:xfrm>
            <a:off x="274320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Cinquante=-money in Leb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21:28:38Z</dcterms:modified>
  <cp:revision>26</cp:revision>
  <dc:subject/>
  <dc:title>Slide 1</dc:title>
</cp:coreProperties>
</file>